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9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032E-D7A7-4C7D-891E-55C0A4EA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3FA6-D368-498A-8097-590E5145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302D-7DBC-4498-8A4E-F715057BA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6457-3B0F-4E07-9F65-5C30795CA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E244-2782-4DBE-863C-083578A65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A4DB-C749-479D-8254-00C22A06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3DA3-5517-4419-9C4B-E4C1CFCC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25A3-C6AD-4DE2-8E3C-CC399BAB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B5BA-E136-49A9-9A4D-465BAFA0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48C4-6C92-4C57-A757-768EB264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5175-F923-400A-9C2A-8AA3A1CD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801A-0D93-45BF-B2BB-98C924C9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F841-5D79-4F0F-AA1A-68A972AF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1FD0-24E0-4A08-9DDA-950764D5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1067-C3AF-4B1F-A3D0-8445EA2D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687A-9CB4-4588-8DAE-750064523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CF44-5F0E-4010-9324-5CCA3909F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3DB02-B866-41D8-BDCC-CE437D7E5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A7092-A24D-4CF6-8421-1A15DB4D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6EE8D-4947-47FB-A97D-BB381085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BB3A0-AC24-4BBF-B153-62E29880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FB815-BB49-41D9-934A-9DB8594F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66B9-2E4A-4AB7-91B5-55A610F8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C8A5F-AC25-4C5B-BD42-924B1350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47AD3-24A6-4104-9B71-A2A6006C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73D36-1F21-411E-A40B-5EDB4C6C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0726A-6B96-45A9-8D11-AEEC1549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03C0C-FAE0-486A-ABAE-042B742C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FE99C-1FC7-4C7F-8FE3-9F570E24D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BAEBF-C5A2-4591-BD38-67A38020E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B3A94-648A-441E-B51C-F22C44CB4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03D5F-FBEA-48CB-8D70-E5E27DE7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2A484-5335-4A7F-A8B0-056A8113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63F0-EC4C-453E-8A34-166D8868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9F428-CEA1-42F2-A716-D42B529E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BE40B-5973-453E-8E99-0BE6F1AA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586D4-339E-4225-A07D-44CD9DCD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D5ACD-05DC-45DF-86EA-064E5DB0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40A3D-53EF-4071-9701-5F5E3F4A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513EA-CE01-4444-AD94-CB960778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A9898-CA33-4E92-950B-5466080A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ACDFA-CBDA-4D41-9E78-CEFB783E8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B27ED-A2D6-4B4C-88C8-C87AE26C9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B064D-CCF5-4748-B67B-4B481C59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E941-BB0F-4F23-94B2-5C3DE2A9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80EB4-B9E1-48AB-A660-B6D6B4ED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3E067-DCBE-49E8-B741-9C65BB28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374DE-9713-47C8-A410-42E4AC0D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08DB1-E88F-48B8-80D5-EB73EC7C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2FC8B-329C-4307-8339-7386B385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55CA8-D5A2-40E3-B12D-AB0C68B1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2F90F-6B4C-44D0-B993-1FEEEBAF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DD995-8B9E-4BAC-8B65-38D37D31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0FF0A-BC22-4397-BF04-3A5B47F4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82008-24D3-40C0-8839-5F72D6631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7496-7C0F-4DF8-B7CD-99BFF35A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600A6-1AB9-4C6D-9349-DD6FB9A56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D50FB-A1AF-4B72-88E9-DEFC29561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4BF81-57C4-411B-97A0-01A77253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30915-AA6C-42A4-BA6D-F45419B7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C8303-684E-433E-917D-9BE3561B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80F3B-CC32-4DB8-82EA-3539BFC6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1D191-3B57-4F58-B23B-B141A184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1E717-88D0-4723-8026-F858D74F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FA101-BB6D-4B33-837C-779CE45D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5F00F-68D2-49FE-9814-8A639BFE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647D-2A37-4001-A35E-E0EAC4A3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56A73-C4E9-4387-AC75-01320D87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DB14F-7E50-4D6C-9BDC-C1F71B1CD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4B32E-0FF5-4763-A589-0D89E562B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5CFB-80CF-4BA0-A7E4-4FF82030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5943-1C28-4C82-BD3D-D2961BFF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0CBE-770A-4B8C-8BDD-3BEC700AE9B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E2BB-B0DA-4501-9FA6-FCA881D72A3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FD5A-2EE3-4301-91D6-0F8618BE3C2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F8E7-DB4D-435E-BFCA-62F03C010E0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EEF8-BD58-42EB-8A61-9FBAAC16968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D859-F303-40CF-B146-958AD7160D9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dbf5f9"/>
                </a:solidFill>
                <a:latin typeface="Arial"/>
              </a:rPr>
              <a:t>PLANT TISSUE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0" y="9140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ending on the function they perform, we distinguish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hizodermis - parenchyma for absorption of water and mineral substanc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lorenchyma - parenchyma for photosynthesi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enchyma for storing reserve substances (for storing nutrients - proteins, fats), aerenchyma, parenchyma for storing water...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20" name="Object 10"/>
          <p:cNvGraphicFramePr/>
          <p:nvPr/>
        </p:nvGraphicFramePr>
        <p:xfrm>
          <a:off x="5791320" y="533520"/>
          <a:ext cx="2527200" cy="10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533520"/>
                    <a:ext cx="252720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13"/>
          <p:cNvGraphicFramePr/>
          <p:nvPr/>
        </p:nvGraphicFramePr>
        <p:xfrm>
          <a:off x="5791320" y="1752480"/>
          <a:ext cx="2552760" cy="13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1752480"/>
                    <a:ext cx="255276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Object 17"/>
          <p:cNvGraphicFramePr/>
          <p:nvPr/>
        </p:nvGraphicFramePr>
        <p:xfrm>
          <a:off x="5791320" y="3200400"/>
          <a:ext cx="2552760" cy="148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5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3200400"/>
                    <a:ext cx="25527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Object 18"/>
          <p:cNvGraphicFramePr/>
          <p:nvPr/>
        </p:nvGraphicFramePr>
        <p:xfrm>
          <a:off x="5791320" y="5029200"/>
          <a:ext cx="2552760" cy="1295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7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91320" y="5029200"/>
                    <a:ext cx="25527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ff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MECHANICAL TISSUE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maintain the shape of the plant bod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ells have a thickened cell w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types of mechanical tissu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aaf2"/>
                </a:solidFill>
                <a:latin typeface="Arial"/>
              </a:rPr>
              <a:t>COLLENHY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in the young parts of the plant,i.e. in organs that are still grow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aaf2"/>
                </a:solidFill>
                <a:latin typeface="Arial"/>
              </a:rPr>
              <a:t>SCLERENCHY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in the parts of the plant that arefinished grow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ff"/>
                </a:solidFill>
                <a:latin typeface="Arial"/>
              </a:rPr>
              <a:t>COMPLEX PERMANENT TISSUES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ff"/>
                </a:solidFill>
                <a:latin typeface="Arial"/>
              </a:rPr>
              <a:t>1.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ROTECTIVE TISSU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direct contact with the external environ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x tissues - they are built by different types of ce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uble functio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protectiv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communication (stomes, lenticels, nectaries..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1" lang="sr-CS" sz="3600" spc="-1" strike="noStrike">
                <a:solidFill>
                  <a:srgbClr val="660066"/>
                </a:solidFill>
                <a:latin typeface="Arial"/>
              </a:rPr>
              <a:t>1.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PYDERMI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228600" y="251424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cated on the surface of the plant body (leaves, flower part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ists of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pidermal ce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pecialized ce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35" name="Object 5"/>
          <p:cNvGraphicFramePr/>
          <p:nvPr/>
        </p:nvGraphicFramePr>
        <p:xfrm>
          <a:off x="5562720" y="4343400"/>
          <a:ext cx="2654280" cy="21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4343400"/>
                    <a:ext cx="2654280" cy="21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Object 10"/>
          <p:cNvGraphicFramePr/>
          <p:nvPr/>
        </p:nvGraphicFramePr>
        <p:xfrm>
          <a:off x="1295280" y="4856040"/>
          <a:ext cx="2578320" cy="200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856040"/>
                    <a:ext cx="2578320" cy="20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457200" y="152280"/>
            <a:ext cx="82296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EPYDERM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380880" y="1219320"/>
            <a:ext cx="784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T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7" descr="Plant Tissues | Biology 343 – Plants and People"/>
          <p:cNvPicPr/>
          <p:nvPr/>
        </p:nvPicPr>
        <p:blipFill>
          <a:blip r:embed="rId1"/>
          <a:stretch/>
        </p:blipFill>
        <p:spPr>
          <a:xfrm>
            <a:off x="1676520" y="2057400"/>
            <a:ext cx="5790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0066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PERIDERM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tective lay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found on the surface of older parts of plant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dually replaces the epidermis - the green color changes to brow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44" name="Object 7"/>
          <p:cNvGraphicFramePr/>
          <p:nvPr/>
        </p:nvGraphicFramePr>
        <p:xfrm>
          <a:off x="4267080" y="2286000"/>
          <a:ext cx="1613160" cy="35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286000"/>
                    <a:ext cx="1613160" cy="35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6"/>
          <p:cNvGraphicFramePr/>
          <p:nvPr/>
        </p:nvGraphicFramePr>
        <p:xfrm>
          <a:off x="5943600" y="2514600"/>
          <a:ext cx="2971800" cy="279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2514600"/>
                    <a:ext cx="297180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8"/>
          <p:cNvSpPr/>
          <p:nvPr/>
        </p:nvSpPr>
        <p:spPr>
          <a:xfrm>
            <a:off x="228600" y="685800"/>
            <a:ext cx="4191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LENTIC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" y="4648320"/>
            <a:ext cx="7315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s on the periderm instead of compact tissue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made of spherical cells with an intercellular space between them - air passes 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s where there were stomas on the epider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Object 10"/>
          <p:cNvGraphicFramePr/>
          <p:nvPr/>
        </p:nvGraphicFramePr>
        <p:xfrm>
          <a:off x="3352680" y="914400"/>
          <a:ext cx="4343400" cy="33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914400"/>
                    <a:ext cx="4343400" cy="33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ff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VASCULAR TISSU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e in the conduction of matter through all parts of the plant bod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takes place in two direction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IRATION FLOW – transport of water and minerals from the roots to the leav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MILATION FLOW - transport of substances created in the process of photosynthesis from the leaves to the roo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types of tissu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Xyl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Phlo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4" name="Picture 5" descr="Complex permanent tissue - xylem — lesson. Science State Board, Class 9."/>
          <p:cNvPicPr/>
          <p:nvPr/>
        </p:nvPicPr>
        <p:blipFill>
          <a:blip r:embed="rId1"/>
          <a:stretch/>
        </p:blipFill>
        <p:spPr>
          <a:xfrm>
            <a:off x="5372280" y="4648320"/>
            <a:ext cx="28191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ff"/>
                </a:solidFill>
                <a:latin typeface="Arial"/>
              </a:rPr>
              <a:t>3.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ECRETORY SYSTEM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retory cells can be single or in grou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thin primary cell w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e different secretions - solid or liquid –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retes them from the outside (EXOGENEOUS secretory cells) or collects them in its body (ENDOGENEOUS secretory cell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0" y="1934640"/>
            <a:ext cx="91440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cellular organisms - unicellular alga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ellular organis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8" name="Picture 5" descr="Multicellular and Unicellular Organisms - Differences and Examples"/>
          <p:cNvPicPr/>
          <p:nvPr/>
        </p:nvPicPr>
        <p:blipFill>
          <a:blip r:embed="rId1"/>
          <a:srcRect l="0" t="52463" r="0" b="0"/>
          <a:stretch/>
        </p:blipFill>
        <p:spPr>
          <a:xfrm>
            <a:off x="1371600" y="3657600"/>
            <a:ext cx="61977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58" name="Picture 8" descr="Secretory Tissue in Plants + PPT | Easy Biology Class"/>
          <p:cNvPicPr/>
          <p:nvPr/>
        </p:nvPicPr>
        <p:blipFill>
          <a:blip r:embed="rId1"/>
          <a:srcRect l="0" t="12721" r="45035" b="0"/>
          <a:stretch/>
        </p:blipFill>
        <p:spPr>
          <a:xfrm>
            <a:off x="457200" y="1905120"/>
            <a:ext cx="4648320" cy="47037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0" descr="Secretory tissues in Plants || Resins, gums, tannins, mucilage, Latex -  YouTube"/>
          <p:cNvPicPr/>
          <p:nvPr/>
        </p:nvPicPr>
        <p:blipFill>
          <a:blip r:embed="rId2"/>
          <a:srcRect l="0" t="13606" r="0" b="15643"/>
          <a:stretch/>
        </p:blipFill>
        <p:spPr>
          <a:xfrm>
            <a:off x="5410080" y="2514600"/>
            <a:ext cx="3733920" cy="1981080"/>
          </a:xfrm>
          <a:prstGeom prst="rect">
            <a:avLst/>
          </a:prstGeom>
          <a:ln w="0">
            <a:noFill/>
          </a:ln>
        </p:spPr>
      </p:pic>
      <p:sp>
        <p:nvSpPr>
          <p:cNvPr id="360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ant t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group of morphologically and physiologically identical cells with a structure and function different from other cells of the same organis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nt tissues build both living and dead ce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" descr="Plant tissue | Types Of Plant Tissue System &amp; Their Function"/>
          <p:cNvPicPr/>
          <p:nvPr/>
        </p:nvPicPr>
        <p:blipFill>
          <a:blip r:embed="rId2"/>
          <a:stretch/>
        </p:blipFill>
        <p:spPr>
          <a:xfrm>
            <a:off x="355680" y="1066680"/>
            <a:ext cx="878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0556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 u="sng">
                <a:solidFill>
                  <a:srgbClr val="ff0000"/>
                </a:solidFill>
                <a:uFillTx/>
                <a:latin typeface="Arial"/>
              </a:rPr>
              <a:t>1.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MERISTEMIC TISSU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560" y="1935000"/>
            <a:ext cx="464796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s of the plant body in which cells are constantly dividing are called MERISTEM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s are parenchymatous in shape, with only a primary cell wall, dense cytoplasm, small vacuoles and plastids at the proplastid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ertain number of meristem cells retain their embryonic character throughout the life of the pla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06" name="Object 9"/>
          <p:cNvGraphicFramePr/>
          <p:nvPr/>
        </p:nvGraphicFramePr>
        <p:xfrm>
          <a:off x="5943600" y="1447920"/>
          <a:ext cx="2736720" cy="263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447920"/>
                    <a:ext cx="2736720" cy="26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Object 11"/>
          <p:cNvGraphicFramePr/>
          <p:nvPr/>
        </p:nvGraphicFramePr>
        <p:xfrm>
          <a:off x="6019920" y="4114800"/>
          <a:ext cx="2895480" cy="27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4114800"/>
                    <a:ext cx="28954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228600" y="9140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ording to their position in the plant, meristems can b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1" name="Picture 5" descr="Learn About Location Of Plant Tissue | Chegg.com"/>
          <p:cNvPicPr/>
          <p:nvPr/>
        </p:nvPicPr>
        <p:blipFill>
          <a:blip r:embed="rId1"/>
          <a:stretch/>
        </p:blipFill>
        <p:spPr>
          <a:xfrm>
            <a:off x="1752480" y="2362320"/>
            <a:ext cx="489132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 u="sng">
                <a:solidFill>
                  <a:srgbClr val="ff0000"/>
                </a:solidFill>
                <a:uFillTx/>
                <a:latin typeface="Arial"/>
              </a:rPr>
              <a:t>2.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PERMANENT TISSU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lls of these tissues are specialized to perform a specific fun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lls of these tissues usually do not have the ability to divi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SIMPLE TISSU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nsist of only one type of cells. We include:1) parenchyma 2) mechanical tissues - collenchyma and sclerenchy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COMPLEX TISSU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ntain more than one type of cell. They build three systems:1) subdermal system - epidermis and periderm 2) conducting system - phloem and xylem 3) secretory syst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Rectangle 6" descr=""/>
          <p:cNvPicPr/>
          <p:nvPr/>
        </p:nvPicPr>
        <p:blipFill>
          <a:blip r:embed="rId1"/>
          <a:stretch/>
        </p:blipFill>
        <p:spPr>
          <a:xfrm>
            <a:off x="450720" y="2206800"/>
            <a:ext cx="82425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sr-C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4617b"/>
                </a:solidFill>
                <a:latin typeface="Arial"/>
              </a:rPr>
              <a:t>PARENCHYMAL TISSU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305920" cy="21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s the basic mass of the plant bod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s of parenchymal tissue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thin primary cell wal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ytoplasm are plastids and a large vacuo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s retain the ability to divid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17" name="Object 6"/>
          <p:cNvGraphicFramePr/>
          <p:nvPr/>
        </p:nvGraphicFramePr>
        <p:xfrm>
          <a:off x="1981080" y="4343400"/>
          <a:ext cx="4724640" cy="24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343400"/>
                    <a:ext cx="472464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07:13:33Z</dcterms:created>
  <dc:creator>prodekan 01</dc:creator>
  <dc:description/>
  <dc:language>en-US</dc:language>
  <cp:lastModifiedBy>Korisnik</cp:lastModifiedBy>
  <dcterms:modified xsi:type="dcterms:W3CDTF">2022-10-03T13:34:31Z</dcterms:modified>
  <cp:revision>192</cp:revision>
  <dc:subject/>
  <dc:title>HROMOZOMSKE ABERACIJE</dc:title>
</cp:coreProperties>
</file>